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2445713"/>
        <c:axId val="94839103"/>
      </c:barChart>
      <c:catAx>
        <c:axId val="72445713"/>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4839103"/>
        <c:crosses val="autoZero"/>
        <c:auto val="1"/>
        <c:lblAlgn val="ctr"/>
        <c:lblOffset val="100"/>
        <c:noMultiLvlLbl val="0"/>
      </c:catAx>
      <c:valAx>
        <c:axId val="9483910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2445713"/>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393E4-FA33-4385-800E-79CA6FA37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32BA1-EAFE-42DD-93BA-E1DDBCFE1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924DB-3E13-4B1A-A23F-FCC8BC19C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E787C-7686-41F5-B288-FF07FBBA8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9B30A-C86C-4942-BEE5-23CB42A2A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815E2-ABA8-4701-9B0F-A0CB6FE67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D0895-DEA0-42EC-BF98-55E72F56B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44892-5E43-44C1-BA51-301CCA810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8688F-CE6B-450F-B3FE-9A8B18C96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A53E9-7730-4D01-B255-326816FC1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7D933-C436-4F72-80C4-AFF91D9CE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05B56-09EF-4712-8C87-8D1EDD5DF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6C736-2A35-4DEB-9688-6D2F7EB2B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6E51F-555C-4893-AB57-268CA2680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4088D-0184-4653-BC47-E6C30007A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239E6-FE20-411E-8637-0D73A2A4C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FB4B3-10D9-4817-8744-E7EB3D260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845FC-8429-4905-AC38-5AAE5396A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FD571-1457-4FCB-BC27-C3760A53D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D1183-0819-4131-B9D1-583C49B77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51A4F-614D-41A8-B73A-08A6ECCFA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D9E88-05B2-4EB0-9902-EA5B37C6F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2150-ED42-4B11-95BA-600AF209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6372-FA7A-45D8-BB77-ABA1A42FF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8EEA05-F805-476C-8FBB-71CACFC6222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9E9DA-378E-425E-8C75-FADDF1A1D10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